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A8D9C-01D8-4661-8316-A821D58B4F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23A25-4C87-4DCC-8B21-6343716BE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6B7CA-FC72-434A-A6D4-5209634F6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4626C-13DE-4B96-8665-BDFD82550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10E90-29D0-43ED-995A-97DA854AFD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99C4C-D614-4645-9850-10838E1432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47D4F-4C4E-454E-8DB5-86C41D07D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5D6F6-B62B-4970-978E-E4F7F3000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716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E8AD4-117A-46F9-A693-B1BE15211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4B68E-5CC7-40CD-A03B-D15CA48F90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F8B61-25B5-44F6-A25C-84DA725DD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E706F-19F6-438A-B024-04A8B22B85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5920" y="6381360"/>
            <a:ext cx="503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3781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F8DC-D6C9-4F4F-82F6-12F21FD101FC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1144440"/>
            <a:ext cx="9144000" cy="14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1341360"/>
            <a:ext cx="914400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13431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10"/>
          <p:cNvSpPr/>
          <p:nvPr/>
        </p:nvSpPr>
        <p:spPr>
          <a:xfrm>
            <a:off x="0" y="6084720"/>
            <a:ext cx="9144000" cy="1526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d8e8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SzPct val="8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5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  <a:p>
            <a:pPr lvl="6" marL="2057400" indent="-22860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5724000" y="6265440"/>
            <a:ext cx="324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A6A3D-D0FA-4660-9D96-7224EEA9CC0A}" type="datetime2">
              <a:rPr b="0" lang="fr-FR" sz="1600" spc="-1" strike="noStrike">
                <a:solidFill>
                  <a:srgbClr val="000000"/>
                </a:solidFill>
                <a:latin typeface="Calibri"/>
              </a:rPr>
              <a:t>mardi 28 juillet 20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92160" y="6265440"/>
            <a:ext cx="5487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Direction des Systèmes d'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mobilite.gard.fr/" TargetMode="External"/><Relationship Id="rId2" Type="http://schemas.openxmlformats.org/officeDocument/2006/relationships/hyperlink" Target="https://mobilite.gard.fr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teletravail.gard.fr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333399"/>
                </a:solidFill>
                <a:latin typeface="Calibri"/>
              </a:rPr>
              <a:t>Colloque 14 Novembre 2018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8E9B-5D8B-497A-B236-AB777E77A604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Mobilité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e besoi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éder au système d’information en déplacement ou à domicile (VIP, cadres, astreintes 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mplémentaire au smartphone (accès aux dossiers de travail, outils…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Disponibilité du système d’information 7/7, 24/24 (en dehors des horaires de travail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a solut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dentique au télétravail via un groupe et une adresse différente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mobilite.gard.fr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/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xe de réflexion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struction d’une charte du droit à la déconnexion (exemple mairie de Paris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4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3437-98BF-4743-9DC5-19D2AF2D5AB7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333399"/>
                </a:solidFill>
                <a:latin typeface="Calibri"/>
              </a:rPr>
              <a:t>Missions nouvelles d’accompagnement</a:t>
            </a:r>
            <a:endParaRPr b="0" lang="en-US" sz="3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Aujourd’hui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2 postes de formateur bureautique au sein du service utilisateur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Formation présenti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Auto form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Le besoi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rojets de dématérialisation + développement des usages numériques =&gt; repenser nos méthodes d’accompagnement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bjectifs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Gagner en efficacité et réactivi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Georgia"/>
              </a:rPr>
              <a:t>Renforcer notre présence auprès des utilisateu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333399"/>
                </a:solidFill>
                <a:uFillTx/>
                <a:latin typeface="Georgia"/>
              </a:rPr>
              <a:t>Evolution envisagée 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eur bureautique =&gt; chargé d’accompagnement des usages numériques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8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5C49-392C-46FC-B729-55A94B8F0669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Sommaire: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68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Télétravail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obilité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Missions nouvell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Questions / Réponses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6E8E-1EBF-4AF9-B613-57153F6FCD5E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proje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Télétravail instauré en 2012 =&gt; télécentres (à ce jour 13 sites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érimètre élargi au télétravail à domicile =&gt; règlement présenté en 2017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 chef de projet nommé (au sein de la DRH)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hase pilote programmée sur 6 mois (janvier -&gt; juin 2018) = 50 agents avec une priorité pour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Télétravailleurs actuels en télécent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en situation de handicap ou confrontés à des problèmes de san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gents souhaitant expérimenter le télé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Communication sur Intranet avec la publication du guide du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C140-971C-44AB-8B7F-497F3AE11682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e dispositif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Demande volontaire de l’agent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vis de la hiérarchie et décision au niveau du DGA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Préparation et diffusion d’un arrêté individuel de télé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Equipement fourni par la collectivité + Indemnité 3€/jour télétravaillé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Une journée de formation obligatoire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8C02-B157-48A1-91BE-D08296050726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a solution retenue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ccessible depuis un portail internet   </a:t>
            </a:r>
            <a:r>
              <a:rPr b="0" lang="fr-FR" sz="16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s://teletravail.gard.fr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Indépendant du matériel (Firefox Préconisé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Fonctionnalité  « Etat du service » intégré 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bureau virtuel pour chaque télétravailleur (Citrix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Connexion automatiquement en mode télétravail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mage 1" descr=""/>
          <p:cNvPicPr/>
          <p:nvPr/>
        </p:nvPicPr>
        <p:blipFill>
          <a:blip r:embed="rId2"/>
          <a:stretch/>
        </p:blipFill>
        <p:spPr>
          <a:xfrm>
            <a:off x="6446880" y="1371600"/>
            <a:ext cx="2424240" cy="3182760"/>
          </a:xfrm>
          <a:prstGeom prst="rect">
            <a:avLst/>
          </a:prstGeom>
          <a:ln w="0">
            <a:noFill/>
          </a:ln>
        </p:spPr>
      </p:pic>
      <p:pic>
        <p:nvPicPr>
          <p:cNvPr id="101" name="Image 6" descr=""/>
          <p:cNvPicPr/>
          <p:nvPr/>
        </p:nvPicPr>
        <p:blipFill>
          <a:blip r:embed="rId3"/>
          <a:stretch/>
        </p:blipFill>
        <p:spPr>
          <a:xfrm>
            <a:off x="428760" y="3598920"/>
            <a:ext cx="61592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4B09-8485-41D7-A58F-9BD2C4973C72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3399"/>
                </a:solidFill>
                <a:latin typeface="Georgia"/>
              </a:rPr>
              <a:t>Le matériel:</a:t>
            </a:r>
            <a:endParaRPr b="0" lang="en-US" sz="32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équipement informatique fournit par le département (pas de téléphoni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Un même ordinateur pour 2 usages (ordinateur portable en remplacement du pc fixe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Transfert des donnés utilisateur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Avant 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	</a:t>
            </a: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                             Après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99"/>
                </a:solidFill>
                <a:latin typeface="Georgia"/>
              </a:rPr>
              <a:t>(Bureau)                                (Bureau/Maison)</a:t>
            </a: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tretch/>
        </p:blipFill>
        <p:spPr>
          <a:xfrm>
            <a:off x="4187880" y="3630600"/>
            <a:ext cx="2541600" cy="2541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9" descr=""/>
          <p:cNvPicPr/>
          <p:nvPr/>
        </p:nvPicPr>
        <p:blipFill>
          <a:blip r:embed="rId2"/>
          <a:stretch/>
        </p:blipFill>
        <p:spPr>
          <a:xfrm>
            <a:off x="2400480" y="4605480"/>
            <a:ext cx="1563480" cy="782640"/>
          </a:xfrm>
          <a:prstGeom prst="rect">
            <a:avLst/>
          </a:prstGeom>
          <a:ln w="0">
            <a:noFill/>
          </a:ln>
        </p:spPr>
      </p:pic>
      <p:pic>
        <p:nvPicPr>
          <p:cNvPr id="108" name="Image 11" descr=""/>
          <p:cNvPicPr/>
          <p:nvPr/>
        </p:nvPicPr>
        <p:blipFill>
          <a:blip r:embed="rId3"/>
          <a:stretch/>
        </p:blipFill>
        <p:spPr>
          <a:xfrm>
            <a:off x="-237960" y="4076640"/>
            <a:ext cx="253044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F625-8905-4B77-9A48-6571B668D3A2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agents bénéficiant du télétravail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Livraison de l’équipement : 1 technicien informatique + 1 formatrice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journée de formation obligatoire - 4 points principaux abord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ésentation du proj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Accès au système d’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Risques psychosociaux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Ergonomie du poste de trav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5 sessions comprenant 10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Assistance informatique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accès Internet =&gt; se rapprocher de son fourniss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Georgia"/>
              </a:rPr>
              <a:t>Problème une fois connecté dans la plateforme télétravail =&gt; solliciter le support via notre solution de saisie des incidents ou au 52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=&gt; 40 tickets + 40 contacts téléphoniques 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2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F21B-AA79-410A-88EC-34BD5695B5E9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 – l’accompagnement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333399"/>
                </a:solidFill>
                <a:uFillTx/>
                <a:latin typeface="Georgia"/>
              </a:rPr>
              <a:t>Pour les encadrants : </a:t>
            </a:r>
            <a:endParaRPr b="0" lang="en-US" sz="24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½ journée de formation facultative =&gt; objectif : préparer les encadrants à la pratique de cette nouvelle organisation du travail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4 points évoqués :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 cadre et les enjeu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es conditions de réussite du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La gestion de l’activité et des temps de télétravai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Georgia"/>
              </a:rPr>
              <a:t>Clôture – débat « opportunité pour réinterroger son mode de management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1 session avec 6 participant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0" lang="fr-FR" sz="2000" spc="-1" strike="noStrike">
                <a:solidFill>
                  <a:srgbClr val="333399"/>
                </a:solidFill>
                <a:latin typeface="Georgia"/>
              </a:rPr>
              <a:t>référent télétravail pour répondre aux questions pratiques</a:t>
            </a: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4"/>
          <p:cNvSpPr/>
          <p:nvPr/>
        </p:nvSpPr>
        <p:spPr>
          <a:xfrm>
            <a:off x="6553080" y="63784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2B9D-B474-43E5-93B0-60F4C77075E0}" type="slidenum">
              <a:rPr b="0" lang="fr-FR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71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Calibri"/>
              </a:rPr>
              <a:t>Télétravail</a:t>
            </a:r>
            <a:endParaRPr b="0" lang="en-US" sz="40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Bilan: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Réalisation d’une enquête de satisfaction (agents et encadrant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40 réponses sur 50 télétravailleurs ( retour positif sur le matériel et la journée format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ursuite de l’expérimentation sur 2019 (dossiers déjà en attente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Difficultés concernant l’adaptation des postes au domicile (téléphonie, RQTH..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Organisation et remplacement du poste chronophage (3h/agent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Complexité du support informatique à domicile (problématique de connexion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Formation des encadrants en amont pour accompagner les agents (droits et devoirs)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33399"/>
                </a:solidFill>
                <a:latin typeface="Georgia"/>
              </a:rPr>
              <a:t>Politique d’équipement matériel, utilisation du matériel personnel</a:t>
            </a: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Calibri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9T08:24:03Z</dcterms:created>
  <dc:creator>debos_b</dc:creator>
  <dc:description/>
  <dc:language>en-US</dc:language>
  <cp:lastModifiedBy>blachere_k</cp:lastModifiedBy>
  <dcterms:modified xsi:type="dcterms:W3CDTF">2018-11-13T15:20:18Z</dcterms:modified>
  <cp:revision>95</cp:revision>
  <dc:subject/>
  <dc:title>Organisation DSI</dc:title>
</cp:coreProperties>
</file>